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C36-16B6-4BD3-9BE2-2942774B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35C-D878-4682-AC1C-2389DEDB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E90-DA9C-44F5-A7F4-BA8AB94A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899-F2CC-4C27-BDF9-48BA6577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163-1C16-4D1E-9F20-520F3585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02D-323E-4844-A150-552C7160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14EA-73EF-44B3-9892-3EE5A46B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755-D530-4513-97EF-BC518B5F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A00-CB10-4262-B8AB-32B60368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C58-F838-43E8-8B0E-7929DE95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1AC-7A3E-4AFC-A329-95E8BA48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63E-2702-4DB0-9B8B-14ABB10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542E98FB-B600-420E-9BE5-5D5223301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F62FFBE7-B3E9-4A41-BFBB-F60F1EF87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ame 5"/>
          <p:cNvSpPr/>
          <p:nvPr/>
        </p:nvSpPr>
        <p:spPr>
          <a:xfrm>
            <a:off x="0" y="0"/>
            <a:ext cx="6858000" cy="9906120"/>
          </a:xfrm>
          <a:custGeom>
            <a:avLst/>
            <a:gdLst>
              <a:gd name="textAreaLeft" fmla="*/ 857160 w 6858000"/>
              <a:gd name="textAreaRight" fmla="*/ 6000840 w 6858000"/>
              <a:gd name="textAreaTop" fmla="*/ 857160 h 9906120"/>
              <a:gd name="textAreaBottom" fmla="*/ 9048960 h 9906120"/>
            </a:gdLst>
            <a:ahLst/>
            <a:rect l="textAreaLeft" t="textAreaTop" r="textAreaRight" b="textAreaBottom"/>
            <a:pathLst>
              <a:path w="6858000" h="9906000">
                <a:moveTo>
                  <a:pt x="0" y="0"/>
                </a:moveTo>
                <a:lnTo>
                  <a:pt x="6858000" y="0"/>
                </a:lnTo>
                <a:lnTo>
                  <a:pt x="6858000" y="9906000"/>
                </a:lnTo>
                <a:lnTo>
                  <a:pt x="0" y="9906000"/>
                </a:lnTo>
                <a:close/>
                <a:moveTo>
                  <a:pt x="857250" y="857250"/>
                </a:moveTo>
                <a:lnTo>
                  <a:pt x="857250" y="9048750"/>
                </a:lnTo>
                <a:lnTo>
                  <a:pt x="6000750" y="9048750"/>
                </a:lnTo>
                <a:lnTo>
                  <a:pt x="6000750" y="857250"/>
                </a:lnTo>
                <a:close/>
              </a:path>
            </a:pathLst>
          </a:custGeom>
          <a:solidFill>
            <a:srgbClr val="3c9bd9"/>
          </a:solidFill>
          <a:ln w="9360">
            <a:solidFill>
              <a:srgbClr val="3c9b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oster_A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0" y="2008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800" spc="-1" strike="noStrike">
                <a:solidFill>
                  <a:srgbClr val="8dc440"/>
                </a:solidFill>
                <a:latin typeface="Arial Rounded MT Bold"/>
                <a:cs typeface="Arial"/>
              </a:rPr>
              <a:t>اليوم </a:t>
            </a:r>
            <a:r>
              <a:rPr b="1" lang="ar-YE" sz="28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العالمي</a:t>
            </a:r>
            <a:r>
              <a:rPr b="1" lang="ar-YE" sz="2800" spc="-1" strike="noStrike">
                <a:solidFill>
                  <a:srgbClr val="8dc440"/>
                </a:solidFill>
                <a:latin typeface="Arial Rounded MT Bold"/>
                <a:ea typeface="Arial"/>
              </a:rPr>
              <a:t> </a:t>
            </a:r>
            <a:r>
              <a:rPr b="1" lang="ar-YE" sz="2800" spc="-1" strike="noStrike">
                <a:solidFill>
                  <a:srgbClr val="3489ca"/>
                </a:solidFill>
                <a:latin typeface="Arial Rounded MT Bold"/>
                <a:cs typeface="Arial"/>
              </a:rPr>
              <a:t>لغسل اليد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 rot="21335400">
            <a:off x="2079720" y="2541240"/>
            <a:ext cx="258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2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15</a:t>
            </a:r>
            <a:r>
              <a:rPr b="0" lang="ar-YE" sz="2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أكتوب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0" y="3249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0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أغسل يديك دائماً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1434960" y="5105520"/>
            <a:ext cx="21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6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قبل تناول الطعا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429000" y="5108400"/>
            <a:ext cx="185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6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بعد استخدام المرحا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663480" y="7267680"/>
            <a:ext cx="184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أشط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يديك بالماء الج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597040" y="7270920"/>
            <a:ext cx="1685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أفر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يديك  بالصاب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لمدة </a:t>
            </a: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ea typeface="Arial"/>
              </a:rPr>
              <a:t>20</a:t>
            </a: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ea typeface="Arial"/>
              </a:rPr>
              <a:t> ثان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4282920" y="7270920"/>
            <a:ext cx="168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بل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14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يديك بالم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 rot="21320400">
            <a:off x="1855800" y="8509680"/>
            <a:ext cx="301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8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الأيدي النظي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ar-YE" sz="2800" spc="-1" strike="noStrike">
                <a:solidFill>
                  <a:srgbClr val="ef8f31"/>
                </a:solidFill>
                <a:latin typeface="Arial Rounded MT Bold"/>
                <a:cs typeface="Arial"/>
              </a:rPr>
              <a:t>تنقذ الأرواح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724040" y="473400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3503520" y="473400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841320" y="688968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1800" spc="-1" strike="noStrike">
                <a:solidFill>
                  <a:srgbClr val="f2f2f2"/>
                </a:solidFill>
                <a:latin typeface="Arial Rounded MT Bold"/>
                <a:cs typeface="Arial"/>
              </a:rPr>
              <a:t>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2612880" y="690876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1800" spc="-1" strike="noStrike">
                <a:solidFill>
                  <a:srgbClr val="f2f2f2"/>
                </a:solidFill>
                <a:latin typeface="Arial Rounded MT Bold"/>
                <a:cs typeface="Arial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4383000" y="695628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ar-YE" sz="1800" spc="-1" strike="noStrike">
                <a:solidFill>
                  <a:srgbClr val="f2f2f2"/>
                </a:solidFill>
                <a:latin typeface="Arial Rounded MT Bold"/>
                <a:cs typeface="Arial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2:26:42Z</dcterms:created>
  <dc:creator>Design SC</dc:creator>
  <dc:description/>
  <dc:language>en-US</dc:language>
  <cp:lastModifiedBy>kacarroll</cp:lastModifiedBy>
  <dcterms:modified xsi:type="dcterms:W3CDTF">2011-12-01T20:57:21Z</dcterms:modified>
  <cp:revision>13</cp:revision>
  <dc:subject/>
  <dc:title>Slide 1</dc:title>
</cp:coreProperties>
</file>