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284-D017-4231-94B1-7F87F48E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A8D-8B24-45AD-999B-4CDE477E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7F2-D4B4-4632-9E6F-8048188C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500-0188-4BE4-B168-8C0A0D0B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6E0-D2B3-48C3-A2EC-AEF474F1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804-35B1-447F-B016-ECD49B2F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4B2-8355-4163-8D23-AD509E5C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62B-4B11-414E-974C-E394B86E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F7C-CAB0-487C-8E67-74D4D4D5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F58-712C-4EA8-A63F-BB062887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DFA-80E7-4827-A549-4B5020E4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D80-5768-479D-8979-563132E3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615CB70D-B493-428D-8146-A955E07CA5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B85B5ECD-493C-46E4-ABBA-3D1D26454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ame 5"/>
          <p:cNvSpPr/>
          <p:nvPr/>
        </p:nvSpPr>
        <p:spPr>
          <a:xfrm>
            <a:off x="0" y="0"/>
            <a:ext cx="6858000" cy="9906120"/>
          </a:xfrm>
          <a:custGeom>
            <a:avLst/>
            <a:gdLst>
              <a:gd name="textAreaLeft" fmla="*/ 857160 w 6858000"/>
              <a:gd name="textAreaRight" fmla="*/ 6000840 w 6858000"/>
              <a:gd name="textAreaTop" fmla="*/ 857160 h 9906120"/>
              <a:gd name="textAreaBottom" fmla="*/ 9048960 h 9906120"/>
            </a:gdLst>
            <a:ahLst/>
            <a:rect l="textAreaLeft" t="textAreaTop" r="textAreaRight" b="textAreaBottom"/>
            <a:pathLst>
              <a:path w="6858000" h="9906000">
                <a:moveTo>
                  <a:pt x="0" y="0"/>
                </a:moveTo>
                <a:lnTo>
                  <a:pt x="6858000" y="0"/>
                </a:lnTo>
                <a:lnTo>
                  <a:pt x="6858000" y="9906000"/>
                </a:lnTo>
                <a:lnTo>
                  <a:pt x="0" y="9906000"/>
                </a:lnTo>
                <a:close/>
                <a:moveTo>
                  <a:pt x="857250" y="857250"/>
                </a:moveTo>
                <a:lnTo>
                  <a:pt x="857250" y="9048750"/>
                </a:lnTo>
                <a:lnTo>
                  <a:pt x="6000750" y="9048750"/>
                </a:lnTo>
                <a:lnTo>
                  <a:pt x="6000750" y="857250"/>
                </a:lnTo>
                <a:close/>
              </a:path>
            </a:pathLst>
          </a:custGeom>
          <a:solidFill>
            <a:srgbClr val="3c9bd9"/>
          </a:solidFill>
          <a:ln w="9360">
            <a:solidFill>
              <a:srgbClr val="3c9b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oster_A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0" y="20350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500" spc="-1" strike="noStrike">
                <a:solidFill>
                  <a:srgbClr val="3489ca"/>
                </a:solidFill>
                <a:latin typeface="Arial Rounded MT Bold"/>
              </a:rPr>
              <a:t>JORNADA </a:t>
            </a:r>
            <a:r>
              <a:rPr b="0" lang="en-US" sz="2500" spc="-1" strike="noStrike">
                <a:solidFill>
                  <a:srgbClr val="ef8f31"/>
                </a:solidFill>
                <a:latin typeface="Arial Rounded MT Bold"/>
              </a:rPr>
              <a:t>MUNDIAL </a:t>
            </a:r>
            <a:r>
              <a:rPr b="0" lang="en-US" sz="2500" spc="-1" strike="noStrike">
                <a:solidFill>
                  <a:srgbClr val="8dc440"/>
                </a:solidFill>
                <a:latin typeface="Arial Rounded MT Bold"/>
              </a:rPr>
              <a:t>LAVADO DE MAN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 rot="21335400">
            <a:off x="2079720" y="2541240"/>
            <a:ext cx="258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15 OCTU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0" y="3249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ef8f31"/>
                </a:solidFill>
                <a:latin typeface="Arial Rounded MT Bold"/>
              </a:rPr>
              <a:t>¡LAVA SIEMPRE TUS MAN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1333440" y="51055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ANTES DE </a:t>
            </a:r>
            <a:br>
              <a:rPr sz="1400"/>
            </a:b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MANIPULAR AL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3594240" y="5108400"/>
            <a:ext cx="142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DESPUÉS DE IR AL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841320" y="7267680"/>
            <a:ext cx="14842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HUMED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ef8f31"/>
                </a:solidFill>
                <a:latin typeface="Arial Rounded MT Bold"/>
              </a:rPr>
              <a:t>Lo suficiente para moj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ef8f31"/>
                </a:solidFill>
                <a:latin typeface="Arial Rounded MT Bold"/>
              </a:rPr>
              <a:t>Tus 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2597040" y="7270920"/>
            <a:ext cx="16858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ENJAB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ef8f31"/>
                </a:solidFill>
                <a:latin typeface="Arial Rounded MT Bold"/>
              </a:rPr>
              <a:t>Durant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ef8f31"/>
                </a:solidFill>
                <a:latin typeface="Arial Rounded MT Bold"/>
              </a:rPr>
              <a:t>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4282920" y="7270920"/>
            <a:ext cx="1686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ACL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ef8f31"/>
                </a:solidFill>
                <a:latin typeface="Arial Rounded MT Bold"/>
              </a:rPr>
              <a:t>Con agua abund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8"/>
          <p:cNvSpPr/>
          <p:nvPr/>
        </p:nvSpPr>
        <p:spPr>
          <a:xfrm rot="21320400">
            <a:off x="1855440" y="8509680"/>
            <a:ext cx="301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286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500" spc="-1" strike="noStrike">
                <a:solidFill>
                  <a:srgbClr val="ef8f31"/>
                </a:solidFill>
                <a:latin typeface="Arial Rounded MT Bold"/>
              </a:rPr>
              <a:t>¡MANOS LIMPI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86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500" spc="-1" strike="noStrike">
                <a:solidFill>
                  <a:srgbClr val="ef8f31"/>
                </a:solidFill>
                <a:latin typeface="Arial Rounded MT Bold"/>
              </a:rPr>
              <a:t>SALVAN VIDA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1724040" y="473400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3503520" y="473400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841320" y="691848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2612880" y="691848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3"/>
          <p:cNvSpPr/>
          <p:nvPr/>
        </p:nvSpPr>
        <p:spPr>
          <a:xfrm>
            <a:off x="4383000" y="691848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2:26:42Z</dcterms:created>
  <dc:creator>Design SC</dc:creator>
  <dc:description/>
  <dc:language>en-US</dc:language>
  <cp:lastModifiedBy>kacarroll</cp:lastModifiedBy>
  <dcterms:modified xsi:type="dcterms:W3CDTF">2012-01-10T15:06:40Z</dcterms:modified>
  <cp:revision>11</cp:revision>
  <dc:subject/>
  <dc:title>Slide 1</dc:title>
</cp:coreProperties>
</file>